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ABE-FAF0-428E-8F0D-3051126F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A3D-3A60-4A21-9BFA-A1F8B96B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E1D-40C4-440E-BE5C-0F64115D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DD2-F238-48B4-BD02-70CB64E6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6140-388C-42C5-B16D-AE515AEE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8B8C-610F-48ED-9220-3D674BC6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1371-F943-4865-A6A3-D9235761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E008-096D-4D30-BAC8-4FD020CC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36D1-BE70-4845-A9AA-778225CF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C04B-40D5-41C2-AAC7-2B773268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9CEF-A777-4055-819C-B792C4F5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F95-C8DA-4CCB-8249-B6BEC77C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B60F-853F-494C-96A9-6187CBEE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BBE1-970B-4514-A064-9CB0365C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4190-6606-4A96-A207-958F71E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3377-3B88-4C43-95AD-71902E2D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E37B-46AE-4D1E-83FA-2E862CDF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423-00AE-47FE-B234-7FCC79CC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BC0-11F3-47DB-BDC4-CD6F0F82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225-A5EB-4485-B12C-F9F13EAB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7D6-B386-4F85-ABE3-1225077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332-C182-42E7-B703-D41781E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97A-B971-4C44-A920-8BAAD8AF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E37-C243-4E01-A413-B2670A7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F37-B270-4BE0-AE2A-365E8A0F8E9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7049-ABAB-462A-A0B6-5C513EECD5A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plib.ru/literature/proverbs/htm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wisdoms.ru/poslovizi_i_pogovorki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foxdesign.ru/aphorism/topik/t_proverb.html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russianplanet.ru/filblog/ruslit/poslovitsy.htm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9af7d"/>
                </a:solidFill>
                <a:latin typeface="Book Antiqua"/>
              </a:rPr>
              <a:t>Русские пословицы и поговорк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195280" y="5105520"/>
            <a:ext cx="564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Britannic Bold"/>
              </a:rPr>
              <a:t>Проект для 7 класса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97080" y="26366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а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73864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ловица- «это цвет народного ума, самобытной стати; это житейская народная правда, своего рода судебник, никем не судимый.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предел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словица- краткое, вошедшее в речевой оборот и имеющее поучительный смысл, ритмически организованное изречение, в котором отражен социально-исторический опыт люд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говорка- широко распространенное образное выражение, метко определяющее какое-либо жизненное явлени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обенности пословиц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Это всегда обобщени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з каждой пословицы следует выво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словица обретает свой конкретный смысл в реч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еряя первоначальный смысл, она приобретает новы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Это отражение духовного облика нар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обенности поговорк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ишена прямого обобщенного смыс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меет иносказательное выраж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В речи пословица часто становится поговоркой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Легко чужими руками жар загребать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пословиц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Чужими руками жар загребает 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поговор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Пословицы и поговорки часто указывают на эпоху, в которую они появились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Пусто, словно Мамай прошел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указывает на время порабощ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уси иг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Свинью подложить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– происхождение связывают с военным строем древних славян, при котором дружина становилась «клином» или «свиньей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вое собрание пословиц и поговорок – «Повести или пословицы всенароднейшие по алфавиту» - относится к 17 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Ппословицы русского народа» - Даль, 14 ве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Garamond"/>
                <a:hlinkClick r:id="rId2"/>
              </a:rPr>
              <a:t>www.fplib.ru/literature/proverbs/ht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Garamond"/>
                <a:hlinkClick r:id="rId4"/>
              </a:rPr>
              <a:t>www.wisdoms.ru/poslovizi_i_pogovork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Garamond"/>
                <a:hlinkClick r:id="rId6"/>
              </a:rPr>
              <a:t>www.foxdesign.ru/aphorism/topik/t_proverb.htm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Garamond"/>
                <a:hlinkClick r:id="rId8"/>
              </a:rPr>
              <a:t>www.russianplanet.ru/filblog/ruslit/poslovitsy.ht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26:32Z</dcterms:created>
  <dc:creator>User_07</dc:creator>
  <dc:description/>
  <dc:language>en-US</dc:language>
  <cp:lastModifiedBy>User_07</cp:lastModifiedBy>
  <dcterms:modified xsi:type="dcterms:W3CDTF">2009-11-27T07:14:40Z</dcterms:modified>
  <cp:revision>5</cp:revision>
  <dc:subject/>
  <dc:title>Русские пословицы и поговорки</dc:title>
</cp:coreProperties>
</file>